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336E-8902-4F4B-B7BF-9AFB8C14B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E131-BC41-4CB0-891F-6185E78F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BF0E-D272-4910-9FFF-63DB8C082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C6F3-24CB-4D35-B959-98CD5F6C9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0392-0083-4074-99E1-CCB0081C2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6778-9C23-4528-AE1A-C27BFF18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3ABD-9405-4E71-921E-1438DCF7D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FCE0-7F97-4FA8-BDF5-A204434A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55E2-AE90-4D12-8C99-89A7A43C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3CFD-5ED1-4D20-94DC-6D0F6119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0FC7-7AEB-4C4D-B12E-CA48157B0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F7BA-0891-441B-AA4A-12A1AA98B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0CA-B100-4098-B734-F5A685C5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C63-924E-4CF6-B99E-8AF91EF4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C90-B8F0-40B5-8D59-545A711B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EA2-B87E-46F7-853F-5497876A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751-D779-4B1F-B8FF-0D153ADD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692-CA37-47A6-84AD-E80BFDC6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F2E-90CE-4632-98BC-09A299CE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DC3-81AE-4E48-9BAF-C52ACEA1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F1E-3B76-45DD-910A-6C1F6599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A77-D23C-4CF8-8874-1C2AA77C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CA6-DFE5-4426-AF40-0DC188D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AA4-2E1D-49C8-BACD-0FB3573A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7010-AB75-4F3E-8DB3-97B38DC3D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909960" y="6505560"/>
            <a:ext cx="2895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Ургентна стања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F3E1-D1B8-4AA0-92D7-01179ABEA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РГЕНТНА СТАЊА У ТОКУ СТОМАТОЛОШКЕ ТЕРАПИЈЕ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RS" sz="1400" spc="-1" strike="noStrike">
                <a:solidFill>
                  <a:srgbClr val="000000"/>
                </a:solidFill>
                <a:latin typeface="Arial"/>
              </a:rPr>
              <a:t> Ургентна стања у стоматологиј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Предавање бр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RS" sz="1400" spc="-1" strike="noStrike">
                <a:solidFill>
                  <a:srgbClr val="000000"/>
                </a:solidFill>
                <a:latin typeface="Arial"/>
              </a:rPr>
              <a:t>28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Arial"/>
              </a:rPr>
              <a:t>Доц. д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раган Гази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869040" y="6180120"/>
            <a:ext cx="718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Copyright © 20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66"/>
                </a:solidFill>
                <a:latin typeface="Arial"/>
              </a:rPr>
              <a:t>Перфорација зидова кавума и корена зуба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7640" y="1890720"/>
            <a:ext cx="3702240" cy="3216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0000" y="2022480"/>
            <a:ext cx="3733920" cy="3139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760" y="6491160"/>
            <a:ext cx="41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0160" y="646128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ерфорација</a:t>
            </a:r>
            <a:r>
              <a:rPr b="1" lang="sr-RS" sz="2800" spc="-1" strike="noStrike">
                <a:solidFill>
                  <a:srgbClr val="000066"/>
                </a:solidFill>
                <a:latin typeface="Arial"/>
              </a:rPr>
              <a:t> зидова кавума и корена зуб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17600" y="1630080"/>
            <a:ext cx="8726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рапија може бити конзервативна и хирурш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зервативна терапија се спроводи код свежих интеррадиксних перфорација препаратима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(OH)2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цинкоксида, екстрарадиксна перфорација лечи се егзактним пуњењем као код лечења канала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хируршко лечење акциденталне перфорације спроводи се када су настале ресорптивне промене у кости и стварање гранулацио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DC8B-B5B9-40A7-A3A0-C74715EB0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9960" y="35856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релом каналних инструмената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52A4-E58A-4EFE-B4B1-B059711B9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0800" y="1833480"/>
            <a:ext cx="587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" y="1779480"/>
            <a:ext cx="8450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 каналних инструмената се може десити у било којој  фази ендодонтске терап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као последица употребе дотрајалих инструмената или грубе манип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а може бити конзервативна и хирур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Image result for instrument fracture in root canal"/>
          <p:cNvPicPr/>
          <p:nvPr/>
        </p:nvPicPr>
        <p:blipFill>
          <a:blip r:embed="rId1"/>
          <a:stretch/>
        </p:blipFill>
        <p:spPr>
          <a:xfrm>
            <a:off x="585720" y="4191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47960" y="4094280"/>
            <a:ext cx="2486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920" y="37908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66"/>
                </a:solidFill>
                <a:latin typeface="Arial"/>
              </a:rPr>
              <a:t>Пребацивање коренског пуњења у суседна ткива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 је најчешћа компликација приликом оптурације канала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са обично заврши у периапикалним ткивима, а изузетно ретко може бити утиснута у носну или синусну шупљину или у мандибуларни канал и у тим случајевима се мора хируршки уклон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Image result for root canal overfill"/>
          <p:cNvPicPr/>
          <p:nvPr/>
        </p:nvPicPr>
        <p:blipFill>
          <a:blip r:embed="rId1"/>
          <a:stretch/>
        </p:blipFill>
        <p:spPr>
          <a:xfrm>
            <a:off x="969840" y="4119480"/>
            <a:ext cx="2457720" cy="1857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19480" y="4029120"/>
            <a:ext cx="329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8F5D-D6BC-4690-A882-68259E0D0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82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вађења зуб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493560" y="1442880"/>
            <a:ext cx="80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 ФРАКТУРА КРУНЕ ИЛИ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C:\Users\Zoran\Downloads\oralna hirurgija\slike\20050122294a379efc01d373.99813001.JPG"/>
          <p:cNvPicPr/>
          <p:nvPr/>
        </p:nvPicPr>
        <p:blipFill>
          <a:blip r:embed="rId1"/>
          <a:stretch/>
        </p:blipFill>
        <p:spPr>
          <a:xfrm>
            <a:off x="1355760" y="2001960"/>
            <a:ext cx="6372360" cy="2266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3"/>
          <p:cNvSpPr/>
          <p:nvPr/>
        </p:nvSpPr>
        <p:spPr>
          <a:xfrm>
            <a:off x="360360" y="4740120"/>
            <a:ext cx="848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 се јавља услед анатомских аномалија коренова, или је реч о погрешној техници вађења зуба ( лош избор клешта, лоша апликација клешта као и употреба погрешних и грубих покрет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09CB-D685-413E-90CA-801FE988C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вађења зуб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33440" y="1744560"/>
            <a:ext cx="82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ПОВРЕДЕ МЕКИХ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rcRect l="0" t="8196" r="4390" b="11359"/>
          <a:stretch/>
        </p:blipFill>
        <p:spPr>
          <a:xfrm>
            <a:off x="368280" y="2538360"/>
            <a:ext cx="3414600" cy="20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2"/>
          <a:stretch/>
        </p:blipFill>
        <p:spPr>
          <a:xfrm>
            <a:off x="5049720" y="2619360"/>
            <a:ext cx="3517920" cy="2050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1852560" y="5186520"/>
            <a:ext cx="510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мичк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0296-86A7-4E3E-AFED-B4DFD634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вађења зуб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Picture 11" descr="C:\Users\Zoran\Downloads\oralna hirurgija\slike\imagespolo.jpg"/>
          <p:cNvPicPr/>
          <p:nvPr/>
        </p:nvPicPr>
        <p:blipFill>
          <a:blip r:embed="rId1"/>
          <a:srcRect l="0" t="5899" r="3936" b="11238"/>
          <a:stretch/>
        </p:blipFill>
        <p:spPr>
          <a:xfrm>
            <a:off x="357120" y="2154240"/>
            <a:ext cx="3935520" cy="241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C:\Users\Zoran\Downloads\oralna hirurgija\slike\imagepoppp.jpg"/>
          <p:cNvPicPr/>
          <p:nvPr/>
        </p:nvPicPr>
        <p:blipFill>
          <a:blip r:embed="rId2"/>
          <a:stretch/>
        </p:blipFill>
        <p:spPr>
          <a:xfrm>
            <a:off x="5200560" y="2084400"/>
            <a:ext cx="3486240" cy="28796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3"/>
          <p:cNvSpPr/>
          <p:nvPr/>
        </p:nvSpPr>
        <p:spPr>
          <a:xfrm>
            <a:off x="2490840" y="55706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чк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2AFE-8E27-4946-89F8-5C381B0A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вађења зуб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44600" y="1720800"/>
            <a:ext cx="8229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ПОВРЕДА СУСЕДНОГ ЗУБА ИЛИ ЗУБА АНТАГОН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 услед погрешне апликације клешта преко сусед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 доња вилиц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 неправилног рада са полугом ( тачка ослонца на суседном зубу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C:\Users\Zoran\Downloads\oralna hirurgija\slike\slide-29-728 (2).jpg"/>
          <p:cNvPicPr/>
          <p:nvPr/>
        </p:nvPicPr>
        <p:blipFill>
          <a:blip r:embed="rId1"/>
          <a:stretch/>
        </p:blipFill>
        <p:spPr>
          <a:xfrm>
            <a:off x="5934240" y="4084560"/>
            <a:ext cx="2822400" cy="226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:\Users\Zoran\Downloads\oralna hirurgija\slike\imagesgfr.jpg"/>
          <p:cNvPicPr/>
          <p:nvPr/>
        </p:nvPicPr>
        <p:blipFill>
          <a:blip r:embed="rId2"/>
          <a:stretch/>
        </p:blipFill>
        <p:spPr>
          <a:xfrm>
            <a:off x="623880" y="4341960"/>
            <a:ext cx="366408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1AE3-BC43-4738-9B64-F99D8881C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вађења зуб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57200" y="170820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. ПОВРЕДА АЛВЕОЛАРНОГ НАСТ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C:\Users\Zoran\Downloads\oralna hirurgija\slike\download (5).jpg"/>
          <p:cNvPicPr/>
          <p:nvPr/>
        </p:nvPicPr>
        <p:blipFill>
          <a:blip r:embed="rId1"/>
          <a:srcRect l="17811" t="0" r="13510" b="1998"/>
          <a:stretch/>
        </p:blipFill>
        <p:spPr>
          <a:xfrm>
            <a:off x="1022400" y="3316320"/>
            <a:ext cx="2798640" cy="2951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C:\Users\Zoran\Downloads\oralna hirurgija\slike\imagesdlo.jpg"/>
          <p:cNvPicPr/>
          <p:nvPr/>
        </p:nvPicPr>
        <p:blipFill>
          <a:blip r:embed="rId2"/>
          <a:stretch/>
        </p:blipFill>
        <p:spPr>
          <a:xfrm>
            <a:off x="4900680" y="3424320"/>
            <a:ext cx="3516120" cy="2340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746280" y="259884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ози: анатомски, патолошки и јатр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2958-1CD2-4A27-A5DE-EDA03F6D1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вађења зуб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44600" y="1515960"/>
            <a:ext cx="81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5. ПРЕЛОМ ТУБЕРА ГОР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C:\Users\Zoran\Downloads\oralna hirurgija\slike\imagesCAFNV19O.jpg"/>
          <p:cNvPicPr/>
          <p:nvPr/>
        </p:nvPicPr>
        <p:blipFill>
          <a:blip r:embed="rId1"/>
          <a:stretch/>
        </p:blipFill>
        <p:spPr>
          <a:xfrm>
            <a:off x="1176480" y="2076480"/>
            <a:ext cx="2963880" cy="215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Users\Zoran\Downloads\oralna hirurgija\slike\image12_w.jpg"/>
          <p:cNvPicPr/>
          <p:nvPr/>
        </p:nvPicPr>
        <p:blipFill>
          <a:blip r:embed="rId2"/>
          <a:stretch/>
        </p:blipFill>
        <p:spPr>
          <a:xfrm>
            <a:off x="5330880" y="1881360"/>
            <a:ext cx="3249720" cy="2484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2"/>
          <p:cNvSpPr/>
          <p:nvPr/>
        </p:nvSpPr>
        <p:spPr>
          <a:xfrm>
            <a:off x="853920" y="4584600"/>
            <a:ext cx="799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1. хируршко вађење зуба и фрактурираног туб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хируршко вађење зуба и задржавање туб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имобилизација и фиксација преломљеног тубера заједно са зу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3120" y="928800"/>
            <a:ext cx="85377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току  стоматолошких интервенција могу настати бројне нежељене појаве које се морају збрињавати имедијатно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јчешће настају као последица неадекватне и некоректне употребе инструмената и медикамената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ва стања могу настати у току готово свих стоматолошких интервенција, али су најчешћа  у ток ендодонтске терапије и вађења зуба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0384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5B65-BED8-4749-BEF2-6085C3CF3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49120" y="368280"/>
            <a:ext cx="88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УРГЕНТНА СТАЊА У ТОКУ СТОМАТОЛОШКЕ ТЕРАПИЈЕ</a:t>
            </a: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504800"/>
            <a:ext cx="822960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B837-331E-4594-B2EA-6E34DE35F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вађења зуб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541440" y="1600200"/>
            <a:ext cx="81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6. ПРЕЛОМ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C:\Users\Zoran\Downloads\oralna hirurgija\slike\imagelo.jpg"/>
          <p:cNvPicPr/>
          <p:nvPr/>
        </p:nvPicPr>
        <p:blipFill>
          <a:blip r:embed="rId1"/>
          <a:stretch/>
        </p:blipFill>
        <p:spPr>
          <a:xfrm>
            <a:off x="2143080" y="2371680"/>
            <a:ext cx="4908600" cy="194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C:\Users\Zoran\Downloads\oralna hirurgija\slike\imagesvbvc.jpg"/>
          <p:cNvPicPr/>
          <p:nvPr/>
        </p:nvPicPr>
        <p:blipFill>
          <a:blip r:embed="rId2"/>
          <a:stretch/>
        </p:blipFill>
        <p:spPr>
          <a:xfrm>
            <a:off x="2205000" y="4475160"/>
            <a:ext cx="48895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68BE-BBCB-4059-8396-7456E667D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вађења зуб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766800" y="1547640"/>
            <a:ext cx="3809880" cy="2870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C:\Users\Zoran\Downloads\oralna hirurgija\slike\imagesfrac.jpg"/>
          <p:cNvPicPr/>
          <p:nvPr/>
        </p:nvPicPr>
        <p:blipFill>
          <a:blip r:embed="rId2"/>
          <a:stretch/>
        </p:blipFill>
        <p:spPr>
          <a:xfrm>
            <a:off x="5753160" y="1585800"/>
            <a:ext cx="2838240" cy="29149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349200" y="4897440"/>
            <a:ext cx="863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жељно је извршити привремену имобилизацију, или бар ставити повез доње вилице. На тај начин обезбеђује се мировање фраг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смањује бол, помаже спонтано заустављање крварења и ширење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1B5D-9FEA-49F6-B6A3-561F4B63E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вађења зуб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457200" y="1768320"/>
            <a:ext cx="81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7. ЛУКСАЦИЈА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C:\Users\Zoran\Downloads\oralna hirurgija\slike\zt04.jpg"/>
          <p:cNvPicPr/>
          <p:nvPr/>
        </p:nvPicPr>
        <p:blipFill>
          <a:blip r:embed="rId1"/>
          <a:stretch/>
        </p:blipFill>
        <p:spPr>
          <a:xfrm>
            <a:off x="538200" y="2876400"/>
            <a:ext cx="3809880" cy="250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http://conseildentaire.files.wordpress.com/2011/03/atm-nelaton-01.jpg"/>
          <p:cNvPicPr/>
          <p:nvPr/>
        </p:nvPicPr>
        <p:blipFill>
          <a:blip r:embed="rId2"/>
          <a:srcRect l="773" t="0" r="0" b="5894"/>
          <a:stretch/>
        </p:blipFill>
        <p:spPr>
          <a:xfrm>
            <a:off x="5354640" y="2727360"/>
            <a:ext cx="3789360" cy="30114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4"/>
          <p:cNvSpPr/>
          <p:nvPr/>
        </p:nvSpPr>
        <p:spPr>
          <a:xfrm>
            <a:off x="601560" y="5702400"/>
            <a:ext cx="63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авезно урадити урадити репозицију мандиб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6400-4DFA-4BDB-BB38-8F0B5E0C2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вађења зуб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480960" y="1636560"/>
            <a:ext cx="81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8. ПОТИСКИВАЊЕ КОРЕНА У ОКОЛНА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C:\Users\Zoran\Downloads\oralna hirurgija\slike\download (6).jpg"/>
          <p:cNvPicPr/>
          <p:nvPr/>
        </p:nvPicPr>
        <p:blipFill>
          <a:blip r:embed="rId1"/>
          <a:stretch/>
        </p:blipFill>
        <p:spPr>
          <a:xfrm>
            <a:off x="2619360" y="2744640"/>
            <a:ext cx="4002120" cy="28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вађења зуб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роантрална комуник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трогена (последица лекарск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греш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натомски узрокована због однос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енова зуба са синусном шупљ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тискивање корена у синус (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rpus alienum in ant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DE7B-9796-4E2D-9CD6-ED6647537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пародонтолошких захват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току пародонтолошких захвата ургентна стања нису карактеристична. Углавном могу наста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Крвар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вреде меких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Ређе су повреде пода максиларног синуса приликом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ретирања дубоких инфракоштаних џепова у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уркацији горњих мол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8BB6-CEC8-41D9-88BA-F1737C9FE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Arial"/>
              </a:rPr>
              <a:t>Ургентна стања у току протетског збрињавањ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46040" y="190296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ично настају повреде меких ткива: усана, гингиве, образа, језика, у току коришћења ротационих инструмената и шајб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D2E9-F64C-44C7-AD4F-E2CBF11B1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1360" y="20772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66"/>
                </a:solidFill>
                <a:latin typeface="Arial"/>
              </a:rPr>
              <a:t>Аспирација и гутање страних тел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93560"/>
            <a:ext cx="86868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спирација и гутање страних тела представљају посебно ризичне компликације, поготово ако страно тело изврши потпуну опструкцију дисајних пут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огу се аспирирати или прогутати делови пломби, екстрахирани зуби, канални инструменти, мале протетске надокнаде, отисни материјал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себан ризик настаје у случајевима епизодних бесвесних стања када нису уклоњени инструменти или страна тела из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венција ових компликација подразумева пажљиво коришћење инструмената и додавање материјала од стране асистента и увек присутну аспирацију садржаја усне дуп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5558-6BF8-49F4-B531-7A2217859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66"/>
                </a:solidFill>
                <a:latin typeface="Arial"/>
              </a:rPr>
              <a:t>Аспирација и гутање страних тел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13920" y="1771200"/>
            <a:ext cx="882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халирана страна тела могу се задржати у било ком делу респираторног тракта, али најчешће се локализују у десном брон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колико се аспирира страно тело долази до надражајног кашља, гушења, стридора и пацијент је јако уплаш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д аспирације је потребно хитно транспортовати пацијента у специјализовану устано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утање страних тела настаје када она доспеју на базу језика, када се активира рефлекс гу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02E3-A77E-46A5-92B7-88EB53911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262673"/>
                </a:solidFill>
                <a:latin typeface="Arial"/>
              </a:rPr>
              <a:t>Ургентна стања у току ендодонтске терап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14000" y="1930320"/>
            <a:ext cx="87296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кроза меких ткива у току девита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ерфорација зидова кавума и корена з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лом каналних инстру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бацивање коренског пуњења у суседна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7CE1-EAFD-4882-8475-29B85E4AB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63680" y="147168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току ендодонтске терапије од девитализације до дефинитивног пуњења могу настати нежељене поја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Некроза меких ткива у току девитализациј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524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колико се препарати за девитализацију користе неадекват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усклађена количина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дужено задржавање у кавит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ко се средство помери након апл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кротизирајући ефекат се испољава на околном меком ткиву гингиве, кости периапикалног предела или интерденталног септ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E113-7025-4770-9D73-E1D25083D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Некроза меких ткива у току девитализациј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C76C-5FA0-405E-98CC-B61C9846C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http://www.jidonline.com/articles/2011/1/1/images/JInterdiscipDentistry_2011_1_1_41_77205_f5.jpg"/>
          <p:cNvPicPr/>
          <p:nvPr/>
        </p:nvPicPr>
        <p:blipFill>
          <a:blip r:embed="rId1"/>
          <a:stretch/>
        </p:blipFill>
        <p:spPr>
          <a:xfrm>
            <a:off x="318960" y="1814400"/>
            <a:ext cx="3957840" cy="3229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271760" y="1831680"/>
            <a:ext cx="487188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линичким прегледом уочавају се некротичне промене интерденталне гингиве која је сивкасте боје, неосетљива на бол и не крв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тежим случајевима уочава се потпуни губитак меких ткива са видљивим некротичним променама на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360" y="17892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Некроза меких ткива у току девитализациј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9014-E834-4A5C-B90F-B34A6181E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5252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ерапија овако насталих промен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д благих форми рану испрати 3% хидрогеном или 0,5% хлораминаом и заштитити завојем цинкокс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д тежих форми потребно је хируршки уклонити некротично ткиво до здравог ткива, испрати 3% хидрогеном или 0,5% хлораминаом и заштитити завојем цинкокс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д апикалних промена треба најпре екстирпирати пулпу, антисептичким растворима испрати канале и дезартикулисати зубе, ако не дође до побољшања урадити ресек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89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66"/>
                </a:solidFill>
                <a:latin typeface="Arial"/>
              </a:rPr>
              <a:t>Перфорација зидова кавума и корена зуба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1370-CF5D-4BAA-B9E7-84311F11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680" y="1852560"/>
            <a:ext cx="8869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форација кавума пулпе или корена зуба је честа компликација која је најчешће грешка терапеута или је условљена присутним непроходним или закривљеним кана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због употребе дебљих каналних инструмената или машинских проширив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 се десити на било ком месту што зависи од морфологије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лавном настаје због занемаривања анатомских карактеристик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Miki</cp:lastModifiedBy>
  <dcterms:modified xsi:type="dcterms:W3CDTF">2015-06-02T22:39:04Z</dcterms:modified>
  <cp:revision>1939</cp:revision>
  <dc:subject/>
  <dc:title>NAZIV PREDAVANJA</dc:title>
</cp:coreProperties>
</file>